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E094-E5A9-457E-8E67-8F5197D3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169E-2E1A-46F7-BE46-AF5AD6E7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4799-3AED-4351-800E-AFEC19416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EF6D-75E3-4100-9A06-107A15E25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7391-31DE-4330-9367-D00EC86D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FF68-FAF2-4FEC-94CB-91076561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AFBC-601A-433B-9295-728B61BC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7FFF-F2C7-49F3-BCCA-5C9839C8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B1B8-A173-45FD-B5EE-F98ECFB3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E2DD-4F9A-473B-83C3-9F570723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B998-C0F2-4A40-810B-0B47B8A6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F5D8-6957-484E-8DAB-999E8117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61FA-D6AC-4B9D-8F82-F161626E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DA6D-0F5B-482B-BF45-7ADFED6A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8124-7C50-4703-B219-4EE3B770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E528-C2C2-4DBA-877A-9629C9B4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2F6F-5A46-4351-B5EB-AB1450844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8A9D-432D-4EF5-8768-7AE64F9F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C755-9092-45AD-BA5A-47337100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B0BA-3D12-4D26-A46E-61EF50E7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C123-4EC9-4788-B567-781CE9F7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4FEA-5BA5-440E-8F54-7E9E1AA3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9F62-2432-4E53-A692-4C17EABA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154C-D5BB-4F7F-9E75-6931CB95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48D2-DE48-457D-814C-EE64AA7CA2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E115-603B-43B0-BFF9-89EB4D983A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58920" y="1628640"/>
            <a:ext cx="712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WZAJEMNE POŁOŻENIE PROSTYCH.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ODCINKI PROSTOPADŁE, PROSTE PROSTOPADŁ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REŚLENIE PROSTYCH PROSTOPADŁY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1052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1268280"/>
            <a:ext cx="69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Rysujemy prostą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1628640"/>
            <a:ext cx="52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Do narysowanej prostej przykładamy ekierk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1989000"/>
            <a:ext cx="561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Rysujemy prostą n przy drugim boku ekier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6000" y="2349360"/>
            <a:ext cx="57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Przedłużamy linijką prostą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76360" y="4870440"/>
            <a:ext cx="6551640" cy="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96360" y="4510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203640" y="3357720"/>
            <a:ext cx="1800000" cy="1512720"/>
            <a:chOff x="3203640" y="3357720"/>
            <a:chExt cx="1800000" cy="1512720"/>
          </a:xfrm>
        </p:grpSpPr>
        <p:sp>
          <p:nvSpPr>
            <p:cNvPr id="103" name=""/>
            <p:cNvSpPr/>
            <p:nvPr/>
          </p:nvSpPr>
          <p:spPr>
            <a:xfrm flipH="1">
              <a:off x="3850920" y="3934080"/>
              <a:ext cx="865080" cy="7189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3203640" y="3357720"/>
              <a:ext cx="1800000" cy="15127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5021280" y="2935440"/>
            <a:ext cx="0" cy="1935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76640" y="2935440"/>
            <a:ext cx="3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1280" y="4870440"/>
            <a:ext cx="0" cy="8985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2708280"/>
            <a:ext cx="372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5. Końcowy rysun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16000" y="585936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sta n jest prostopadła do prostej k, co zapisujemy symbolicznie 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6600ff"/>
                </a:solidFill>
                <a:latin typeface="Symbol"/>
                <a:ea typeface="Symbol"/>
              </a:rPr>
              <a:t>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JAK ZAPAMIĘTAĆ NAZWĘ „PROSTOPADŁA”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1052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01640" y="3564000"/>
            <a:ext cx="4005360" cy="144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37000" y="32446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62280" y="1630440"/>
            <a:ext cx="0" cy="1935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17640" y="1630440"/>
            <a:ext cx="3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62280" y="3565440"/>
            <a:ext cx="9360" cy="21132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11640" y="2124000"/>
            <a:ext cx="3510000" cy="37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yły sobie dwie pros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tóre cały dzień skakał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k, że „nogi” ich bolał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 zabaw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ierwsza stał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ro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ruga ze zmęczenia </a:t>
            </a:r>
            <a:r>
              <a:rPr b="1" i="1" lang="en-US" sz="2000" spc="-1" strike="noStrike">
                <a:solidFill>
                  <a:srgbClr val="009900"/>
                </a:solidFill>
                <a:latin typeface="Arial"/>
              </a:rPr>
              <a:t>padł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sto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padł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ODCINKI PROSTOPADŁ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71640" y="3608280"/>
            <a:ext cx="368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71640" y="1808280"/>
            <a:ext cx="0" cy="351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57360" y="3608280"/>
            <a:ext cx="2340000" cy="0"/>
          </a:xfrm>
          <a:prstGeom prst="line">
            <a:avLst/>
          </a:prstGeom>
          <a:ln w="2232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2550960"/>
            <a:ext cx="0" cy="2205360"/>
          </a:xfrm>
          <a:prstGeom prst="line">
            <a:avLst/>
          </a:prstGeom>
          <a:ln w="2232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76280" y="3608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16280" y="360828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71640" y="239400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71640" y="4599000"/>
            <a:ext cx="5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02360" y="1854360"/>
            <a:ext cx="351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wa odcinki są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stopadł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gdy leżą na prostych prostopadł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57720" y="3789360"/>
            <a:ext cx="346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cinek LN jes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stopadł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o odcinka MK, co symbolicznie zapisujemy: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LN</a:t>
            </a:r>
            <a:r>
              <a:rPr b="1" lang="en-US" sz="2000" spc="-1" strike="noStrike">
                <a:solidFill>
                  <a:srgbClr val="6600ff"/>
                </a:solidFill>
                <a:latin typeface="Symbol"/>
                <a:ea typeface="Symbol"/>
              </a:rPr>
              <a:t>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 M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11:02Z</dcterms:modified>
  <cp:revision>7</cp:revision>
  <dc:subject/>
  <dc:title>Slajd 1</dc:title>
</cp:coreProperties>
</file>